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botz%20Menu%20Popup.wav" ContentType="audio/x-wav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0BC-1824-40DF-862E-2C6DE999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0FC-790C-4269-ABF6-D748EB09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A1D-EB45-4AC6-A947-222D7F72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15B-C347-4D03-BD04-F77AC7BE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2AE-54FB-4C09-88B9-9C79EC3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DA8-62E6-44EF-87C7-783AD80D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172-D189-43BE-90C3-8BCF1BCF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761-19AD-42AB-B8E1-227CAD8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AB0-525A-45B7-9881-54B53EF4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770-DC49-4204-94F5-3C2FF3C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265-18D0-4720-8DB3-83FCA73F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6C9-AC15-464C-B47B-7F11443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D822-7138-490D-A95C-A42DE38A3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1.xml"/><Relationship Id="rId3" Type="http://schemas.openxmlformats.org/officeDocument/2006/relationships/slide" Target="slide29.xml"/><Relationship Id="rId4" Type="http://schemas.openxmlformats.org/officeDocument/2006/relationships/slide" Target="slide27.xml"/><Relationship Id="rId5" Type="http://schemas.openxmlformats.org/officeDocument/2006/relationships/slide" Target="slide25.xml"/><Relationship Id="rId6" Type="http://schemas.openxmlformats.org/officeDocument/2006/relationships/slide" Target="slide23.xml"/><Relationship Id="rId7" Type="http://schemas.openxmlformats.org/officeDocument/2006/relationships/slide" Target="slide21.xml"/><Relationship Id="rId8" Type="http://schemas.openxmlformats.org/officeDocument/2006/relationships/slide" Target="slide19.xml"/><Relationship Id="rId9" Type="http://schemas.openxmlformats.org/officeDocument/2006/relationships/slide" Target="slide17.xml"/><Relationship Id="rId10" Type="http://schemas.openxmlformats.org/officeDocument/2006/relationships/slide" Target="slide15.xml"/><Relationship Id="rId11" Type="http://schemas.openxmlformats.org/officeDocument/2006/relationships/slide" Target="slide13.xml"/><Relationship Id="rId12" Type="http://schemas.openxmlformats.org/officeDocument/2006/relationships/slide" Target="slide11.xml"/><Relationship Id="rId13" Type="http://schemas.openxmlformats.org/officeDocument/2006/relationships/slide" Target="slide9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2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14.xml"/><Relationship Id="rId11" Type="http://schemas.openxmlformats.org/officeDocument/2006/relationships/slide" Target="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6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18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20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3.xml"/><Relationship Id="rId11" Type="http://schemas.openxmlformats.org/officeDocument/2006/relationships/slide" Target="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22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slide12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24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26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28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30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32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8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0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Prize 1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0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1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2" action="ppaction://hlinksldjump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3" action="ppaction://hlinksldjump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4" action="ppaction://hlinksldjump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5" action="ppaction://hlinksldjump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6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creator of the compu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87692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 Joseph Ma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Jacq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809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si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y users does Facebook have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 10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255m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40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 300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y users does Facebook Ha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C 25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4876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 300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creator of Facebook ?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 Mark Elli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Zucker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. Edu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Sav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B. Dusti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Moskov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.  Chris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59911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0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1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5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creator of Faceboo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A Mark Ell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Zucker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D Chris Hug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is the maker of Ipod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Sam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M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A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is the creator of the Ip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D M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886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952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. Ap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Season of Degrassi just aired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Seaso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Seas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B. Season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Season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Season of Degrassi just ai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A Seaso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886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. Season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year did Elvis pass away?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D</a:t>
            </a:r>
            <a:r>
              <a:rPr b="1" lang="en-US" sz="2000" spc="-1" strike="noStrike">
                <a:solidFill>
                  <a:srgbClr val="82c7cc"/>
                </a:solidFill>
                <a:latin typeface="Tahoma"/>
              </a:rPr>
              <a:t>. 1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9911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esident of the United States?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Ben Fran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.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Thomas Jeff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B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. John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. Samuel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0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5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year did Elvis pass a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1200" y="39625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5105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4952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c7cc"/>
                </a:solidFill>
                <a:latin typeface="Arial"/>
              </a:rPr>
              <a:t>D. 1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Year was the constitution written?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A 17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. 1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c7cc"/>
                </a:solidFill>
                <a:latin typeface="Tahoma"/>
              </a:rPr>
              <a:t>B. 17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. 17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1200" y="39625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1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28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Year was the constitution writ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 17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name of George Washington's mom?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Mary ball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Cindy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B. </a:t>
            </a:r>
            <a:r>
              <a:rPr b="0" lang="en-US" sz="2000" spc="-1" strike="noStrike" u="sng">
                <a:solidFill>
                  <a:srgbClr val="82c7cc"/>
                </a:solidFill>
                <a:uFillTx/>
                <a:latin typeface="Tahoma"/>
              </a:rPr>
              <a:t>Sandra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. Lila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9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name of George Washington's m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1760" y="39625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andra Washingto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8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Mary ball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y inches in 1 mile?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5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705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63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17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inches in 1 mi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41200" y="39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63360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38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created the monitor for the computer?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88620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Bill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Allen Du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Arnold Hen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The UC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59911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reated the monitor for the compu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. The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4952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0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 Allen Du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created the internet?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88620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DA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ARP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 Bill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The UC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is the second president of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. John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. Samuel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reated the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. The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4952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038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 DA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created the Pythagorean theorem ?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88620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Pyth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ythagorea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B.  Ply M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. Pythag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reated the Pythagorean theorem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. Pythag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952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4038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4952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 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ythagor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created chemistry?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88620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A Musl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.  Buddh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B. 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D</a:t>
            </a:r>
            <a:r>
              <a:rPr b="1" lang="en-US" sz="2000" spc="-1" strike="noStrike">
                <a:solidFill>
                  <a:srgbClr val="82c7cc"/>
                </a:solidFill>
                <a:latin typeface="Tahoma"/>
              </a:rPr>
              <a:t>.  Japa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59911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3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4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5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6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reated chemis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0292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4952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4038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2c7cc"/>
                </a:solidFill>
                <a:latin typeface="Arial"/>
              </a:rPr>
              <a:t>A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4952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c7cc"/>
                </a:solidFill>
                <a:latin typeface="Arial"/>
              </a:rPr>
              <a:t>D.  Japa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1447920" y="5257800"/>
            <a:ext cx="838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1143000" y="5638680"/>
            <a:ext cx="6858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full name of George Washington’s wife before he married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 Kim Camp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Martha Dand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Cus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B. Anna Letitia Barba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.  Mary Wollstone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715000"/>
            <a:ext cx="183492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0" action="ppaction://hlinksldjump"/>
          </p:cNvPr>
          <p:cNvSpPr/>
          <p:nvPr/>
        </p:nvSpPr>
        <p:spPr>
          <a:xfrm>
            <a:off x="1219320" y="5991120"/>
            <a:ext cx="183492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full name of George Washington’s wife before he married 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48769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952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. Martha Dandridge Cus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809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. Kim Camp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creator of the computer?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Asia Min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Bill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Arnold Hen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Joseph Marie Jacq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2:46:48Z</dcterms:created>
  <dc:creator>SPRIAUS</dc:creator>
  <dc:description/>
  <dc:language>en-US</dc:language>
  <cp:lastModifiedBy>SPRIAUS</cp:lastModifiedBy>
  <dcterms:modified xsi:type="dcterms:W3CDTF">2010-11-16T13:34:21Z</dcterms:modified>
  <cp:revision>9</cp:revision>
  <dc:subject/>
  <dc:title>Slide 1</dc:title>
</cp:coreProperties>
</file>